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1CFD-3ABC-43B9-A3FF-E0559C3EF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807-71A9-40EA-A8A0-05FB6DE0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98E-4B8B-4AF6-B161-9ACB461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942-CFA0-4739-923E-C60A92D5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7FB-66C5-4291-830A-5C821FF1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C12-6705-4458-82DB-6A542639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5F2-1E59-4D79-810A-F0446B6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E8F-60E3-4A9D-8E14-B6A92009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2E1-0DC0-4936-B8F2-0314C37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7B6-DC86-4CD0-B88C-D6D0B61A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98B-5256-4095-83D8-38123D8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8A1-01CF-4C40-88EB-CD53902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EB8-6C3F-4A11-8B9B-4DCFBBC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31670-90E5-4055-A056-21A40B834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0-02-08T15:46:47Z</dcterms:modified>
  <cp:revision>10</cp:revision>
  <dc:subject/>
  <dc:title>PowerPoint Presentation</dc:title>
</cp:coreProperties>
</file>